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F5B-C58B-4497-99D7-CDFD4FA4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49B-D983-4A8A-872F-9C280488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7D4-A85C-4AFA-A0F8-34F15BAE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27E-157D-43A6-B951-58F1C598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3C5-223C-4859-BAB9-F136EF12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A52-A8C3-4498-9D22-2200967E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3BA-2542-4C5F-9089-605C77EA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796-08DD-490E-9D1F-95C574C4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D0B-CFC9-462A-BE00-DFD0DCEF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04C-F2C1-4EEE-A91B-96E2DDD6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99B-430E-4427-96E7-F0705F47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736-D8B3-4E5C-889C-58B5F08C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6477-D0A0-4ED4-9408-A5367D3E4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1600200" cy="858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8080" y="1066680"/>
            <a:ext cx="693756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05740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R 738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04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B09-C100-4943-AB8C-D9920670C2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 732 submitted Novem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detailed requirements for enhanced FasTr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ed 14 MPs over a three week period in Ma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C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TD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 738 submitted August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roject to implement the requirements gathered for SCR 7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E04-FC94-4CC8-A61E-BF319A70C5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 for SCR 7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internal requirements – Oct.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with MPs and ERCOT staff –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’s IT Department will provide a recommendation on a tool –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market with the recommendation – Feb/March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86E-0C26-43FF-862B-ED0C63A34D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0-07T16:18:02Z</dcterms:modified>
  <cp:revision>433</cp:revision>
  <dc:subject/>
  <dc:title>PowerPoint Presentation</dc:title>
</cp:coreProperties>
</file>